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1064-18C7-4464-AB7E-CFCDD896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0707-DC45-4C0E-9F8A-CA472EDE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AEFE-436B-4A9D-9E48-7B0D3E36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7BE6-965A-4762-BCB8-AC2B4DC9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3B99-44FE-46B5-A1B1-14E772E3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11C3-53E4-42D8-B911-E0D029DE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5366-14AD-4D4C-8D42-199073AB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B8CE-C221-447A-B48C-DA365714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16E-B799-41ED-8287-2D0515BC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8743-3981-4023-AA1C-7AD9F80C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4145-9D48-457F-8A89-06DD95FF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BB5B-E578-4842-BB74-348A97B8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A7C7-080C-4B39-823E-1B11DB7CD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dult Bas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AdultBaseline9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AdultBaseline10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AdultBaseline1.jpg"/>
          <p:cNvPicPr/>
          <p:nvPr/>
        </p:nvPicPr>
        <p:blipFill>
          <a:blip r:embed="rId1"/>
          <a:stretch/>
        </p:blipFill>
        <p:spPr>
          <a:xfrm>
            <a:off x="766800" y="843120"/>
            <a:ext cx="76104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AdultBaseline2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dultBaseline3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AdultBaseline4.jpg"/>
          <p:cNvPicPr/>
          <p:nvPr/>
        </p:nvPicPr>
        <p:blipFill>
          <a:blip r:embed="rId1"/>
          <a:stretch/>
        </p:blipFill>
        <p:spPr>
          <a:xfrm>
            <a:off x="766800" y="809640"/>
            <a:ext cx="76104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AdultBaseline5.jpg"/>
          <p:cNvPicPr/>
          <p:nvPr/>
        </p:nvPicPr>
        <p:blipFill>
          <a:blip r:embed="rId1"/>
          <a:stretch/>
        </p:blipFill>
        <p:spPr>
          <a:xfrm>
            <a:off x="762120" y="824040"/>
            <a:ext cx="761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AdultBaseline6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AdultBaseline7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AdultBaseline8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19:58Z</dcterms:created>
  <dc:creator>zcui</dc:creator>
  <dc:description/>
  <dc:language>en-US</dc:language>
  <cp:lastModifiedBy>rbalne</cp:lastModifiedBy>
  <dcterms:modified xsi:type="dcterms:W3CDTF">2009-08-12T13:56:23Z</dcterms:modified>
  <cp:revision>23</cp:revision>
  <dc:subject/>
  <dc:title>TRAC</dc:title>
</cp:coreProperties>
</file>